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1A9F-FC31-4345-A96A-746D40CFD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D15D-047B-4EC6-B19E-E24D498A1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B26-06BA-4906-A32B-9ADF7338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03E-E1D6-4194-8D24-C60E98FB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E34-06E9-408A-9E8F-78C3A73D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86E-A006-4978-B30E-B227BE11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F2E2B-79CD-4FAE-AC83-21AC43F2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37FB7-9ED7-4F03-8F13-06884752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99B95-284D-443D-B30D-729F8697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FFFEA-AAB5-4591-AACC-C50A335F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26240-4068-4D55-8AB9-759FB3F7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BBE77-358C-4CC4-8525-17CD8B68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EFD00-7B85-4B0E-9E77-5260289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31A-D807-4962-B4A5-453E6778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3598E-14EC-4A04-8E42-96828E0C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DF16B-7D48-48E1-85B5-57728FD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D172A-C2C2-4272-886E-F1C4CBF6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E24AA-9F16-4F99-BD76-24089530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AA4B4-1C25-4758-8586-5A423720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584-71DA-4C4A-B3A9-49B153B0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087-5EF2-4F40-8FFB-C0250F01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B6E-A159-4710-B790-1AA53771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829-685A-419F-B3E1-6F6D690C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5A9-A6FC-4B3B-82DB-102112D5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02E-8D67-43B5-96A5-AF5CD04A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DA9-4CAC-4D59-8F6D-5AB018FF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6EE-385B-427E-9D24-8EE5B0A801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B45B-019E-4684-AA89-06A1D322BF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anic_of_1873_bank_run.jpg" TargetMode="External"/><Relationship Id="rId2" Type="http://schemas.openxmlformats.org/officeDocument/2006/relationships/hyperlink" Target="http://en.wikipedia.org/wiki/Bank_run" TargetMode="External"/><Relationship Id="rId3" Type="http://schemas.openxmlformats.org/officeDocument/2006/relationships/hyperlink" Target="http://en.wikipedia.org/wiki/File:Panic_of_1873_bank_run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Unit I: Tensions in the We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495680" cy="548640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Impact of the Homestead 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86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Gov’t offered farmers 160 acres of land if they cleared &amp; farmed it for 5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pl who moved were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mest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ncreased farms from 2 mil to 6 mil from 1860-19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808000"/>
          </a:solidFill>
          <a:ln w="76320">
            <a:solidFill>
              <a:srgbClr val="46341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art II: Settling the West &amp; Growth of the Cattle Industr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0" name="Picture 9" descr="millions_acres"/>
          <p:cNvPicPr/>
          <p:nvPr/>
        </p:nvPicPr>
        <p:blipFill>
          <a:blip r:embed="rId1"/>
          <a:stretch/>
        </p:blipFill>
        <p:spPr>
          <a:xfrm>
            <a:off x="4952880" y="1600200"/>
            <a:ext cx="34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4038480" cy="647712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a period of rain in the ‘Great Desert’ &amp; the promise of land urged over 500,000 settlers to move to the Great Pl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Farmers adjusted to the land &amp; the Great Plains became the most productive wheat-growing region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wheat1"/>
          <p:cNvPicPr/>
          <p:nvPr/>
        </p:nvPicPr>
        <p:blipFill>
          <a:blip r:embed="rId1"/>
          <a:stretch/>
        </p:blipFill>
        <p:spPr>
          <a:xfrm>
            <a:off x="4724280" y="1523880"/>
            <a:ext cx="4419720" cy="294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homesteaders"/>
          <p:cNvPicPr/>
          <p:nvPr/>
        </p:nvPicPr>
        <p:blipFill>
          <a:blip r:embed="rId2"/>
          <a:stretch/>
        </p:blipFill>
        <p:spPr>
          <a:xfrm>
            <a:off x="4457880" y="914400"/>
            <a:ext cx="46861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038480" cy="472464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Pacific Railroad Act (186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Building of the Transcontinental (across the continent) Rail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Gave companies free land if they laid railr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8" descr="Union+Pacific+Railroad"/>
          <p:cNvPicPr/>
          <p:nvPr/>
        </p:nvPicPr>
        <p:blipFill>
          <a:blip r:embed="rId1"/>
          <a:stretch/>
        </p:blipFill>
        <p:spPr>
          <a:xfrm>
            <a:off x="4533840" y="1219320"/>
            <a:ext cx="46101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6248520"/>
          </a:xfrm>
          <a:prstGeom prst="rect">
            <a:avLst/>
          </a:prstGeom>
          <a:solidFill>
            <a:srgbClr val="003399"/>
          </a:solidFill>
          <a:ln w="5724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Gold R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Gold in Calif. (1849) caused more than 100,000 ppl to cross Great Pl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Mining towns sprang up in Colorado, (Silver) Nevada, (Copper) Montana, (Black Hills) Dak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3" descr="478px-California_Gold_Rush_handbill"/>
          <p:cNvPicPr/>
          <p:nvPr/>
        </p:nvPicPr>
        <p:blipFill>
          <a:blip r:embed="rId1"/>
          <a:stretch/>
        </p:blipFill>
        <p:spPr>
          <a:xfrm>
            <a:off x="4649760" y="0"/>
            <a:ext cx="42656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4038480" cy="563904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ng Towns (Boom Town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had no gov’t, no law, &amp; little order (‘Wild, Wild West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Mining damaged land &amp; further moved N.A out of their home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51363106"/>
          <p:cNvPicPr/>
          <p:nvPr/>
        </p:nvPicPr>
        <p:blipFill>
          <a:blip r:embed="rId1"/>
          <a:stretch/>
        </p:blipFill>
        <p:spPr>
          <a:xfrm>
            <a:off x="4381560" y="1066680"/>
            <a:ext cx="47624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. Ranchers &amp; Cowboy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800600" cy="4000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0" y="0"/>
            <a:ext cx="4038480" cy="685800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horn cattle needed to be transported to the ea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Drive’- cattle were driven from Texas to the stockyard near the rail roads in Kan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collapsed in 1887 due to severe cold. Ranchers settled down &amp; built barns to house their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cowdrive"/>
          <p:cNvPicPr/>
          <p:nvPr/>
        </p:nvPicPr>
        <p:blipFill>
          <a:blip r:embed="rId2"/>
          <a:stretch/>
        </p:blipFill>
        <p:spPr>
          <a:xfrm>
            <a:off x="0" y="1828800"/>
            <a:ext cx="51055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038480" cy="655308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Extermination of the Buffa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tampeding buffalo &amp; Nat. Amer. caused a problem so hunters were encouraged to kill as many buffalo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By 1880 the buffalo were hunted to near extinction &amp; the Plains Indians were forced to move to reservations due to lack of fo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8" descr="Buffalo%20485098"/>
          <p:cNvPicPr/>
          <p:nvPr/>
        </p:nvPicPr>
        <p:blipFill>
          <a:blip r:embed="rId1"/>
          <a:stretch/>
        </p:blipFill>
        <p:spPr>
          <a:xfrm>
            <a:off x="4114800" y="152280"/>
            <a:ext cx="50292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II. Reservation Life &amp; Resis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e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Nat. Amer. Were forced to move on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serv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land set aside for Nat. Amer. &amp; were promised food, farm tools &amp;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. Amer. were urged to live like “the white ma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sbfull"/>
          <p:cNvPicPr/>
          <p:nvPr/>
        </p:nvPicPr>
        <p:blipFill>
          <a:blip r:embed="rId1"/>
          <a:stretch/>
        </p:blipFill>
        <p:spPr>
          <a:xfrm>
            <a:off x="270000" y="1600200"/>
            <a:ext cx="3808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. Battle of Little Big Horn (Montana 1876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003399"/>
          </a:solidFill>
          <a:ln w="5724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Custer’s men discovered gold in the Black H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 Miners swarmed in &amp; the gov’t ordered the Sioux &amp; Cheyenne off th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er was ordered to remove the Indians &amp;  attacked a group of Cheyenne &amp; Sioux camped by the Little Big Horn R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Custer &amp; all his men were killed &amp; but later congress forced Sioux &amp; Cheyenne on to reservations, later all Nat. Amer were forced onto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4" descr="custer"/>
          <p:cNvPicPr/>
          <p:nvPr/>
        </p:nvPicPr>
        <p:blipFill>
          <a:blip r:embed="rId1"/>
          <a:stretch/>
        </p:blipFill>
        <p:spPr>
          <a:xfrm>
            <a:off x="914400" y="609480"/>
            <a:ext cx="191448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The%20Battle%20of%20the%20Little%20Bighorn,%20Charles%20Russell,%201903-500"/>
          <p:cNvPicPr/>
          <p:nvPr/>
        </p:nvPicPr>
        <p:blipFill>
          <a:blip r:embed="rId2"/>
          <a:stretch/>
        </p:blipFill>
        <p:spPr>
          <a:xfrm>
            <a:off x="3048120" y="533520"/>
            <a:ext cx="52196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art IV: Farmers &amp; the Populist Move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572000" cy="54864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ers Face Economic Hardship (late 1800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prices for crops were falling= lower pro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farmer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rtgag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orrowed against) their farms to buy mor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good farming land was hard to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bank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eclo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took back) on farmers who couldn’t pay their mort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railroads were charging farmers high prices for shipping &amp;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9" descr="gd19"/>
          <p:cNvPicPr/>
          <p:nvPr/>
        </p:nvPicPr>
        <p:blipFill>
          <a:blip r:embed="rId1"/>
          <a:stretch/>
        </p:blipFill>
        <p:spPr>
          <a:xfrm>
            <a:off x="4551480" y="1828800"/>
            <a:ext cx="4592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Great American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Re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Buffa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Cattl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Homest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Pacific Railroad Act 18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4038480" cy="60199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armers Demand Cheaper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ter the Civil War there was less $ in circulation so the  value of the $ incre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caused goods &amp; services became che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0" descr="greenbacks"/>
          <p:cNvPicPr/>
          <p:nvPr/>
        </p:nvPicPr>
        <p:blipFill>
          <a:blip r:embed="rId1"/>
          <a:stretch/>
        </p:blipFill>
        <p:spPr>
          <a:xfrm>
            <a:off x="4495680" y="685800"/>
            <a:ext cx="46483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2280"/>
            <a:ext cx="4038480" cy="655344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Farmers wanted to increase the $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during inflation $ is worth less “cheap mone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cheap money causes the price of goods to 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7" descr="MPj04388550000[1]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4495680" cy="67057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Farmers U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Oliver Kelley started the Patrons of Husbandr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Grang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help farmers battle the unfair practices of the railroads &amp; their middle men (grain brokers &amp; mercha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taught farmers how to organize &amp; pressure state gov’t to regulate railroa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as able to gain support from other organ. that sympathized with farmer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1" descr="Grangers_1873"/>
          <p:cNvPicPr/>
          <p:nvPr/>
        </p:nvPicPr>
        <p:blipFill>
          <a:blip r:embed="rId1"/>
          <a:stretch/>
        </p:blipFill>
        <p:spPr>
          <a:xfrm>
            <a:off x="4552920" y="533520"/>
            <a:ext cx="45910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038480" cy="624852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Rise of the Populist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alliances b/t the different groups led to the rise of Populism (mov’t of the peo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Formed the Populist Political Party (People’s Party)- wanted to take debt away from farmers &amp; others &amp; have a greater voice in the gov’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8" descr="0601_030301"/>
          <p:cNvPicPr/>
          <p:nvPr/>
        </p:nvPicPr>
        <p:blipFill>
          <a:blip r:embed="rId1"/>
          <a:stretch/>
        </p:blipFill>
        <p:spPr>
          <a:xfrm>
            <a:off x="4143240" y="1905120"/>
            <a:ext cx="5000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2. Wanted Economic Reform- based on the idea that the gov’t is responsible for reforming social injustice.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80988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the money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es based on income (graduated income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loan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80988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a rise in prices of goods &amp; ser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 would benefit every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’t would be more fair than privately owned ba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28600" y="5408640"/>
            <a:ext cx="8458200" cy="137376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In the West, were able to elect 5 senators, 3 governors, &amp; 1500 state legislators that supported their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0" y="5181480"/>
            <a:ext cx="4038480" cy="1524240"/>
          </a:xfrm>
          <a:prstGeom prst="rect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R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he Fourth National Bank, No. 20 Nassau Street, New York City, 1873. Fro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ank Leslie's Illustrated Newspa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4, 187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038120" y="151920"/>
            <a:ext cx="4953240" cy="67057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Panic of 1863 &amp; the Call for New Curr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conomy Falls due to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failures in the railroad, banks, businesses &amp; eventually the stock market led to massive unemployment &amp; homelessn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Business owners of the Northeast &amp; ppl in the farming industry each had an idea of what would be best for the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300px-Panic_of_1873_bank_ru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0384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3. Battle Over Currency- the main issue during the election of 1896 was over currency ($)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419720" cy="5486400"/>
          </a:xfrm>
          <a:prstGeom prst="rect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700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lverite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rmers &amp; laborers  that support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metal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use of both gold &amp; silver instead of paper money &amp; checks (cheap $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would cause inflation b/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prices ri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more ppl woul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ve $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11" descr="silver-american19-reverse-lrg"/>
          <p:cNvPicPr/>
          <p:nvPr/>
        </p:nvPicPr>
        <p:blipFill>
          <a:blip r:embed="rId1"/>
          <a:stretch/>
        </p:blipFill>
        <p:spPr>
          <a:xfrm>
            <a:off x="5257800" y="1371600"/>
            <a:ext cx="2924280" cy="2865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39197167_gold"/>
          <p:cNvPicPr/>
          <p:nvPr/>
        </p:nvPicPr>
        <p:blipFill>
          <a:blip r:embed="rId2"/>
          <a:stretch/>
        </p:blipFill>
        <p:spPr>
          <a:xfrm>
            <a:off x="5410080" y="4343400"/>
            <a:ext cx="272412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150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“Gold Bugs” – Business owners &amp; bankers that wanted to keep using the gold stand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believed gold was more sec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gold was stable “tight money” expensive but less $ for the p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n the long run $ would be more valu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9" descr="39197167_gold"/>
          <p:cNvPicPr/>
          <p:nvPr/>
        </p:nvPicPr>
        <p:blipFill>
          <a:blip r:embed="rId1"/>
          <a:stretch/>
        </p:blipFill>
        <p:spPr>
          <a:xfrm>
            <a:off x="5029200" y="762120"/>
            <a:ext cx="333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Election of 1896 Ends the Populist Mo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illiam Jennings Bryan looses to William McKinley due to lack of support from urban &amp; industrial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consumers &amp; businesses feared in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opulist mov’t proved that poorly treated groups could organize &amp; have a political impa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8" descr="speech"/>
          <p:cNvPicPr/>
          <p:nvPr/>
        </p:nvPicPr>
        <p:blipFill>
          <a:blip r:embed="rId1"/>
          <a:stretch/>
        </p:blipFill>
        <p:spPr>
          <a:xfrm>
            <a:off x="4876920" y="380880"/>
            <a:ext cx="4057560" cy="3994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prh_01_img0053"/>
          <p:cNvPicPr/>
          <p:nvPr/>
        </p:nvPicPr>
        <p:blipFill>
          <a:blip r:embed="rId2"/>
          <a:stretch/>
        </p:blipFill>
        <p:spPr>
          <a:xfrm>
            <a:off x="5334120" y="685800"/>
            <a:ext cx="3467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153280" cy="20574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. Manifest Destiny</a:t>
            </a:r>
            <a:br>
              <a:rPr sz="2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“obvious fate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f that it was Americas god given destiny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ead out &amp; conquer all of North America 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2751" t="0" r="0" b="9375"/>
          <a:stretch/>
        </p:blipFill>
        <p:spPr>
          <a:xfrm>
            <a:off x="2133720" y="1219320"/>
            <a:ext cx="5105160" cy="34891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2413080" y="63565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g.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solidFill>
            <a:srgbClr val="808000">
              <a:alpha val="67000"/>
            </a:srgbClr>
          </a:solidFill>
          <a:ln w="572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art I: Native Americans in Cri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1447920"/>
            <a:ext cx="4191120" cy="54100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. Frontier Before 1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ntier - an imaginary line that separates settled areas from the wilder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Prior to 1850 the area b/t Missouri &amp; Cali. was unsett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This area was known a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 American Deser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consisted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 Pl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amp;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 Ba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0000038125_20070301141550"/>
          <p:cNvPicPr/>
          <p:nvPr/>
        </p:nvPicPr>
        <p:blipFill>
          <a:blip r:embed="rId1"/>
          <a:stretch/>
        </p:blipFill>
        <p:spPr>
          <a:xfrm>
            <a:off x="4038480" y="1447920"/>
            <a:ext cx="5105520" cy="3381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united-stat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1640" y="228600"/>
            <a:ext cx="4343400" cy="60199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ndians of the Plains saw the land as sacred &amp; used it to support their way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ribes included: Nez Perce, Cheyenne, Comanche, Sio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Many groups were forced or tricked into signing treaties that put Nat. Amer. 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rvatio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oor la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0" descr="ChiefJoseph"/>
          <p:cNvPicPr/>
          <p:nvPr/>
        </p:nvPicPr>
        <p:blipFill>
          <a:blip r:embed="rId1"/>
          <a:stretch/>
        </p:blipFill>
        <p:spPr>
          <a:xfrm>
            <a:off x="380880" y="228600"/>
            <a:ext cx="4019760" cy="5133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schupfer+indians"/>
          <p:cNvPicPr/>
          <p:nvPr/>
        </p:nvPicPr>
        <p:blipFill>
          <a:blip r:embed="rId2"/>
          <a:stretch/>
        </p:blipFill>
        <p:spPr>
          <a:xfrm>
            <a:off x="609480" y="1447920"/>
            <a:ext cx="3810240" cy="311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indians-081a"/>
          <p:cNvPicPr/>
          <p:nvPr/>
        </p:nvPicPr>
        <p:blipFill>
          <a:blip r:embed="rId3"/>
          <a:stretch/>
        </p:blipFill>
        <p:spPr>
          <a:xfrm>
            <a:off x="152280" y="2514600"/>
            <a:ext cx="42865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image?id=5540&amp;rendTypeId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indian9"/>
          <p:cNvPicPr/>
          <p:nvPr/>
        </p:nvPicPr>
        <p:blipFill>
          <a:blip r:embed="rId1"/>
          <a:stretch/>
        </p:blipFill>
        <p:spPr>
          <a:xfrm>
            <a:off x="0" y="-353880"/>
            <a:ext cx="9144000" cy="75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59:46Z</dcterms:created>
  <dc:creator>BPD</dc:creator>
  <dc:description/>
  <dc:language>en-US</dc:language>
  <cp:lastModifiedBy>Mark Greer</cp:lastModifiedBy>
  <dcterms:modified xsi:type="dcterms:W3CDTF">2010-09-29T01:26:35Z</dcterms:modified>
  <cp:revision>43</cp:revision>
  <dc:subject/>
  <dc:title>Unit 1: Tensions in the West</dc:title>
</cp:coreProperties>
</file>